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BCF36-563F-4BFF-9B74-698CDFB3199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D284E-9ECA-4B4E-A1FD-F0644043BBB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C0A35-260F-44BB-8E34-3966296E10E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E541-58B8-476D-A27E-13EBCEFB2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0A75-9E7E-4EFA-A20B-296D8C25A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0955-F680-4EEA-A7E9-AFEFF4EBB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9C7A-68A4-455C-A742-FC4186523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75E5-E3BB-4CAB-9E31-AB117C0B7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BD55-E1EE-4D80-9DF7-2555240DB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172D-25CE-4E12-9570-1052073EE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9B5B-D3D7-46F9-96EB-4FF273E55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A620-78B1-4B1E-95F2-6E0677E8F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7808-50DC-42B7-B552-030960A2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A21C-35E5-41FF-A2E0-59490CE4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9898-56AE-4A0B-A38F-EC72D6BA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8BEB6-87FA-403A-A873-077D8EC5DD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1097280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:\для чупиной презентация\4949c903e0674c2c9888c06a961b93f1.jp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"/>
          <p:cNvSpPr/>
          <p:nvPr/>
        </p:nvSpPr>
        <p:spPr>
          <a:xfrm>
            <a:off x="2087640" y="4174920"/>
            <a:ext cx="10104480" cy="19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кляренко Юлия Анатольевна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меститель директор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УАДО «ООДТДМ им. В.П. Поляничко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.п.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Заголовок 1"/>
          <p:cNvSpPr/>
          <p:nvPr/>
        </p:nvSpPr>
        <p:spPr>
          <a:xfrm>
            <a:off x="263520" y="2120760"/>
            <a:ext cx="11665080" cy="16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3"/>
          <p:cNvSpPr/>
          <p:nvPr/>
        </p:nvSpPr>
        <p:spPr>
          <a:xfrm>
            <a:off x="766800" y="1190520"/>
            <a:ext cx="1065852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«Календарь образовательных событий: использование в воспитательной работе 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:\для чупиной презентация\4949c903e0674c2c9888c06a961b93f1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Объект 4" descr=""/>
          <p:cNvPicPr/>
          <p:nvPr/>
        </p:nvPicPr>
        <p:blipFill>
          <a:blip r:embed="rId2"/>
          <a:stretch/>
        </p:blipFill>
        <p:spPr>
          <a:xfrm>
            <a:off x="30240" y="1023840"/>
            <a:ext cx="12271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:\для чупиной презентация\4949c903e0674c2c9888c06a961b93f1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1" descr=""/>
          <p:cNvPicPr/>
          <p:nvPr/>
        </p:nvPicPr>
        <p:blipFill>
          <a:blip r:embed="rId2"/>
          <a:srcRect l="16094" t="18499" r="13870" b="8656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:\для чупиной презентация\4949c903e0674c2c9888c06a961b93f1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Объект 2" descr=""/>
          <p:cNvPicPr/>
          <p:nvPr/>
        </p:nvPicPr>
        <p:blipFill>
          <a:blip r:embed="rId2"/>
          <a:srcRect l="14960" t="14951" r="10469" b="5502"/>
          <a:stretch/>
        </p:blipFill>
        <p:spPr>
          <a:xfrm>
            <a:off x="0" y="0"/>
            <a:ext cx="12192120" cy="69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:\для чупиной презентация\4949c903e0674c2c9888c06a961b93f1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99880" y="-360"/>
            <a:ext cx="115920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Календарь массовых и методических мероприятий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Региональных ресурсных центро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4" descr=""/>
          <p:cNvPicPr/>
          <p:nvPr/>
        </p:nvPicPr>
        <p:blipFill>
          <a:blip r:embed="rId2"/>
          <a:srcRect l="11675" t="26580" r="9949" b="9439"/>
          <a:stretch/>
        </p:blipFill>
        <p:spPr>
          <a:xfrm>
            <a:off x="152280" y="896760"/>
            <a:ext cx="12192120" cy="5064480"/>
          </a:xfrm>
          <a:prstGeom prst="rect">
            <a:avLst/>
          </a:prstGeom>
          <a:ln w="0">
            <a:noFill/>
          </a:ln>
        </p:spPr>
      </p:pic>
      <p:sp>
        <p:nvSpPr>
          <p:cNvPr id="63" name="Заголовок 1"/>
          <p:cNvSpPr/>
          <p:nvPr/>
        </p:nvSpPr>
        <p:spPr>
          <a:xfrm>
            <a:off x="452520" y="5778360"/>
            <a:ext cx="11592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Приказ о создании Регионального модельного центра  от 23.07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:\для чупиной презентация\4949c903e0674c2c9888c06a961b93f1.jpg"/>
          <p:cNvPicPr/>
          <p:nvPr/>
        </p:nvPicPr>
        <p:blipFill>
          <a:blip r:embed="rId1"/>
          <a:stretch/>
        </p:blipFill>
        <p:spPr>
          <a:xfrm>
            <a:off x="0" y="-1908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83680"/>
            <a:ext cx="1180944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Контакт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Скругленный прямоугольник 5"/>
          <p:cNvSpPr/>
          <p:nvPr/>
        </p:nvSpPr>
        <p:spPr>
          <a:xfrm>
            <a:off x="263520" y="995400"/>
            <a:ext cx="11736360" cy="1569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роткова Дина Анатольевна - заместитель директора ООДТДМ им. В.П. Поляничко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елефон: 8 (3532) 43-51-17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лектронный адрес: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korotkova.oodtdm@mail.r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Скругленный прямоугольник 6"/>
          <p:cNvSpPr/>
          <p:nvPr/>
        </p:nvSpPr>
        <p:spPr>
          <a:xfrm>
            <a:off x="263520" y="2708280"/>
            <a:ext cx="11736360" cy="1569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карец Наталья Борисовна - заместитель директора ООДЮМЦ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елефон: 8 (3532) 44-64-48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лектронный адрес: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karec66@yandex.r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Скругленный прямоугольник 7"/>
          <p:cNvSpPr/>
          <p:nvPr/>
        </p:nvSpPr>
        <p:spPr>
          <a:xfrm>
            <a:off x="263520" y="4437000"/>
            <a:ext cx="11736360" cy="1440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ванова Наталья Дмитриевна – начальник учебно-спортивного отдела ООДЮСШ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елефон: 8 (3532) 77-39-52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лектронный адрес: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vanova_nd@mail.r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10972800" cy="4525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H:\для чупиной презентация\4949c903e0674c2c9888c06a961b93f1.jp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Заголовок 1"/>
          <p:cNvSpPr/>
          <p:nvPr/>
        </p:nvSpPr>
        <p:spPr>
          <a:xfrm>
            <a:off x="1981080" y="1268280"/>
            <a:ext cx="82915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егиональный модельный центр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http://odtdm.ru/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Центр поддержки и методического сопровождения классного руководителя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http://orenklass.narod.ru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/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амятные и юбилейные даты Оренбургской области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 https://orenlib.ru/kray/calendar/year-2020.html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6-07T11:56:35Z</dcterms:created>
  <dc:creator>ДОМ</dc:creator>
  <dc:description/>
  <dc:language>en-US</dc:language>
  <cp:lastModifiedBy>Администратор</cp:lastModifiedBy>
  <cp:lastPrinted>2019-11-13T14:26:38Z</cp:lastPrinted>
  <dcterms:modified xsi:type="dcterms:W3CDTF">2020-08-19T05:31:42Z</dcterms:modified>
  <cp:revision>161</cp:revision>
  <dc:subject/>
  <dc:title>Презентация PowerPoint</dc:title>
</cp:coreProperties>
</file>